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39D-C022-4FE7-8A85-18459927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8B1-F774-4ADA-90A6-2D2BFF8C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7B8-8461-42CC-83C3-0B042328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215-84B0-41DF-B48B-2EFE4413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39E-50C9-4494-85CC-ACDA38E1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87B-8828-461B-83EC-AD934D53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3A3-413A-45BA-A1BD-8A3B726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3F0-22FF-4984-BADC-A169DDF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259-5953-422C-BF05-217E93FD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08E-AB8B-4EA6-853E-76B19C0B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F7F-F37B-4353-97B0-E87ABAFF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888-A880-4399-AEF3-A3B2CA6A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03C-8843-4F12-9051-72579F2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9F4-4DC2-4A43-9DF6-323BC82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BB6-E09C-4250-A6FB-9DD3BC30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llamo Mirela. Yo tengo catorce años. Yo soy dulce, amigable y cuidado 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tú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13240"/>
            <a:ext cx="6508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as?               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. ¿ Y tú?                                                                            Ta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mo. Yo eres muy ti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vivir parís.   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30:42Z</dcterms:created>
  <dc:creator>FriscoISD</dc:creator>
  <dc:description/>
  <dc:language>en-US</dc:language>
  <cp:lastModifiedBy>NYCDOE</cp:lastModifiedBy>
  <dcterms:modified xsi:type="dcterms:W3CDTF">2012-12-06T14:57:15Z</dcterms:modified>
  <cp:revision>107</cp:revision>
  <dc:subject/>
  <dc:title>Profile</dc:title>
</cp:coreProperties>
</file>